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6D3-2100-4AAE-93A2-FD32DCC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E7-FE96-4B7B-BFD2-EC89DB0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7A-AAFE-42F6-BB33-F8AD4A0F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490-EB13-4EFD-9EC5-DB47F734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370-FBFF-483E-9020-E3176A94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010-5FB4-4359-897A-F3F2C15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B11-F0E7-40FE-8A81-BB31797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415-B2AA-4C5A-9054-45300FB0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34F-7C13-461F-9648-1492C1D1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5D1-B263-4A75-A209-618D391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1FE-111C-4AFB-8EFC-EAA1865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EB5-B856-40DC-967E-81F78C7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B7E-B957-46F9-B9B3-91C9CBCDCBF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39000" y="4830840"/>
            <a:ext cx="63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 path, w.r.t. CMAKE_INSTALL_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1-07-18T13:39:27Z</dcterms:modified>
  <cp:revision>15</cp:revision>
  <dc:subject/>
  <dc:title>CMake</dc:title>
</cp:coreProperties>
</file>